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F12-8EB4-4FE3-BCD8-BAF5D6FC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76A8-40FC-4EEE-9AB2-36450C12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F2E5-6E1F-4377-BB12-FF03A78B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16CE-F0E5-4E21-98FB-F94A9559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2C1-F12F-42DD-BB4C-63823D36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6CC6-C6F5-4214-82B0-3338C4CB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2240-B799-4AD7-B629-6BFBBDEB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FAB4-DA78-4568-AC3C-66505B92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2B21-139A-4B71-9821-79CD14D0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8759-D0DF-4224-A448-9DEEFD73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651A-591E-4928-9A14-223029BE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F63D-99EE-4FB9-8218-19DE52E5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2124000" cy="685800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16200000">
            <a:off x="-3086640" y="3086640"/>
            <a:ext cx="6858000" cy="6843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005360" y="1890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41720" y="5805360"/>
            <a:ext cx="650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2195280" y="5516280"/>
            <a:ext cx="4321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39960" indent="0"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60" indent="-39960">
              <a:spcAft>
                <a:spcPts val="437"/>
              </a:spcAft>
              <a:buClr>
                <a:srgbClr val="ff9900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9960" indent="-39960">
              <a:spcAft>
                <a:spcPts val="437"/>
              </a:spcAft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60" indent="-39960">
              <a:spcAft>
                <a:spcPts val="437"/>
              </a:spcAft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9960" indent="-39960">
              <a:spcAft>
                <a:spcPts val="437"/>
              </a:spcAft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9960" indent="-39960">
              <a:spcAft>
                <a:spcPts val="437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9960" indent="-39960">
              <a:spcAft>
                <a:spcPts val="437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65360"/>
            <a:ext cx="9144000" cy="111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195640" y="342864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740720" y="1890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5118" t="0" r="0" b="0"/>
          <a:stretch/>
        </p:blipFill>
        <p:spPr>
          <a:xfrm>
            <a:off x="0" y="0"/>
            <a:ext cx="2133720" cy="164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33520"/>
            <a:ext cx="1333440" cy="632448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528040" y="6524640"/>
            <a:ext cx="6159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0405-1CE9-491A-8C5E-052DD27127FB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65628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3440" y="0"/>
            <a:ext cx="7810560" cy="1025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5123" t="0" r="0" b="0"/>
          <a:stretch/>
        </p:blipFill>
        <p:spPr>
          <a:xfrm>
            <a:off x="0" y="0"/>
            <a:ext cx="1332000" cy="102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416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BMG HR, Mch G, P. Gschwend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0CFF-5947-4816-BDB2-E732E5767780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2/01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7478280" y="14144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042b"/>
                </a:solidFill>
                <a:latin typeface="Minion"/>
                <a:ea typeface="文鼎中黑"/>
              </a:rPr>
              <a:t>Let’s enterprise again! Go!Go!G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05360" y="1890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0"/>
            <a:ext cx="8569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Minion"/>
              </a:rPr>
              <a:t>Leadership Quality Analysis @ BMG PHE RD</a:t>
            </a:r>
            <a:br>
              <a:rPr sz="2800"/>
            </a:br>
            <a:r>
              <a:rPr b="0" lang="en-US" sz="2400" spc="-1" strike="noStrike">
                <a:solidFill>
                  <a:srgbClr val="6600cc"/>
                </a:solidFill>
                <a:latin typeface="Minion"/>
              </a:rPr>
              <a:t>Managers assess Managers about results, capabilities and su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052720" y="8174160"/>
            <a:ext cx="1295280" cy="647640"/>
          </a:xfrm>
          <a:prstGeom prst="rect">
            <a:avLst/>
          </a:prstGeom>
          <a:solidFill>
            <a:srgbClr val="6699cc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97080" y="8318520"/>
            <a:ext cx="1079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8102520"/>
            <a:ext cx="338436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SPP-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EFA/DR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and Feedback during staff dialo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3002040"/>
            <a:ext cx="1803240" cy="1684440"/>
          </a:xfrm>
          <a:prstGeom prst="ellipse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992160"/>
            <a:ext cx="8137440" cy="64260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Definition: The LQA is planned as a part of the feedback-tools of BMG PHE 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47640" y="3070080"/>
            <a:ext cx="1619280" cy="1366920"/>
          </a:xfrm>
          <a:prstGeom prst="rightArrow">
            <a:avLst>
              <a:gd name="adj1" fmla="val 50000"/>
              <a:gd name="adj2" fmla="val 29615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Minion"/>
              </a:rPr>
              <a:t>Peer-Feedb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Minio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Minion"/>
              </a:rPr>
              <a:t>(plann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80000" y="4797360"/>
            <a:ext cx="1366560" cy="1440000"/>
          </a:xfrm>
          <a:prstGeom prst="upArrow">
            <a:avLst>
              <a:gd name="adj1" fmla="val 50000"/>
              <a:gd name="adj2" fmla="val 26344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LPF </a:t>
            </a:r>
            <a:br>
              <a:rPr sz="1800"/>
            </a:br>
            <a:r>
              <a:rPr b="0" lang="de-DE" sz="900" spc="-1" strike="noStrike">
                <a:solidFill>
                  <a:srgbClr val="000000"/>
                </a:solidFill>
                <a:latin typeface="Minion"/>
              </a:rPr>
              <a:t>(Leadership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Minion"/>
              </a:rPr>
              <a:t>Performance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Minion"/>
              </a:rPr>
              <a:t>Feedback</a:t>
            </a:r>
            <a:r>
              <a:rPr b="0" lang="de-DE" sz="1200" spc="-1" strike="noStrike">
                <a:solidFill>
                  <a:srgbClr val="000000"/>
                </a:solidFill>
                <a:latin typeface="Minio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81440" y="1413000"/>
            <a:ext cx="1366920" cy="1439640"/>
          </a:xfrm>
          <a:prstGeom prst="downArrow">
            <a:avLst>
              <a:gd name="adj1" fmla="val 50000"/>
              <a:gd name="adj2" fmla="val 26330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EF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LQ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(pilo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0320" y="3373560"/>
            <a:ext cx="163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Perso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who receiv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51640" y="3068640"/>
            <a:ext cx="1296720" cy="115236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99320" y="3324240"/>
            <a:ext cx="787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36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Minion"/>
              </a:rPr>
              <a:t>(not as a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Minion"/>
              </a:rPr>
              <a:t> standar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052720" y="8174160"/>
            <a:ext cx="1295280" cy="647640"/>
          </a:xfrm>
          <a:prstGeom prst="rect">
            <a:avLst/>
          </a:prstGeom>
          <a:solidFill>
            <a:srgbClr val="6699cc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97080" y="8318520"/>
            <a:ext cx="1079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8102520"/>
            <a:ext cx="338436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SPP-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EFA/DR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and Feedback during staff dialo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981000"/>
            <a:ext cx="8137440" cy="258588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Go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Evaluation of results, capabilities and suitability of managers/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Preparation of managers/employees for EFA-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Survey of the department‘s stren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Definition of individual Action Plans to foster the individual development and to strenghthen the department‘s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3573360"/>
            <a:ext cx="8137440" cy="78552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Target-grou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Managers/employees until 2 levels below Head of BMG PHE 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4665600"/>
            <a:ext cx="8137440" cy="105984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Cont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Assessment about results, capabilities and suitability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of managers/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0920" y="2668680"/>
            <a:ext cx="8137440" cy="120276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Concep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Yearly assessment (based on SLF – pending further not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Managers assess their managers/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907920"/>
            <a:ext cx="8137440" cy="189432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Data on Job-Person-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Action plans for personal development together with personal HR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(e.g. Coaching, Qualification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09800" y="4581360"/>
            <a:ext cx="1800360" cy="10796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44360" y="4624560"/>
            <a:ext cx="14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valuation </a:t>
            </a:r>
            <a:br>
              <a:rPr sz="1600"/>
            </a:b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hrou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MG PHE 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8000" y="4581360"/>
            <a:ext cx="1800000" cy="10796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400" y="4627440"/>
            <a:ext cx="160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irst, volun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in March 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08360" y="4581360"/>
            <a:ext cx="1800360" cy="10796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97480" y="4826160"/>
            <a:ext cx="144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eedback </a:t>
            </a:r>
            <a:br>
              <a:rPr sz="1600"/>
            </a:b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o manag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4581360"/>
            <a:ext cx="1800000" cy="10796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42760" y="4675320"/>
            <a:ext cx="203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Defini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improvement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(max.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08720" y="4581360"/>
            <a:ext cx="1800360" cy="10796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74080" y="4675320"/>
            <a:ext cx="171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pe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of Assess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6 months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0" y="4046400"/>
            <a:ext cx="38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00cc"/>
                </a:solidFill>
                <a:latin typeface="Minion"/>
              </a:rPr>
              <a:t>Pilot at BMG PHE RD – Pro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0" t="15979" r="0" b="0"/>
          <a:stretch/>
        </p:blipFill>
        <p:spPr>
          <a:xfrm>
            <a:off x="468360" y="1978200"/>
            <a:ext cx="7591320" cy="4330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95280" y="99864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ership results are evaluated regarding the categories financials, employees, customers and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65276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Leadership Quality Analysis (1/2) – Leadership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0" t="15051" r="0" b="0"/>
          <a:stretch/>
        </p:blipFill>
        <p:spPr>
          <a:xfrm>
            <a:off x="466560" y="1698480"/>
            <a:ext cx="7490160" cy="4683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68360" y="71136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evaluation regarding the managers suitability is a main issue in the L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129240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Leadership Quality Analysis (2/2) – Manager´s Suit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08:43:04Z</dcterms:created>
  <dc:creator>knectahz</dc:creator>
  <dc:description/>
  <dc:language>en-US</dc:language>
  <cp:lastModifiedBy>Siegfried Bocionek</cp:lastModifiedBy>
  <dcterms:modified xsi:type="dcterms:W3CDTF">2006-03-13T12:44:40Z</dcterms:modified>
  <cp:revision>10</cp:revision>
  <dc:subject/>
  <dc:title>Agenda</dc:title>
</cp:coreProperties>
</file>